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50B-E90F-4E4E-82F1-DAFD716C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C25-08F1-44F2-ACFD-B9E4953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6CA3-C0CF-4CC0-9B89-B751F38A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04FB0-7204-4152-B600-D291538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06856-41BA-4316-936B-671CFB9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1CE5-2071-4F9D-8AC6-B629C92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52E95-FBBF-40C4-B235-0EB94CD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D6000-F25C-477B-965B-0347D9B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3AD62-A44E-4785-8CFF-A00F83A0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7D8F2-DE5D-489F-93EB-0AD22B40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2136D-6929-4C63-AF44-76E56EE5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D0B06-A971-4268-A690-25F0B671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1A8-CB9F-43A1-B38D-AB69B686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394DC-B9F8-4CDA-9AC6-CE05810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9F20A-9940-4C42-9B2F-E510EA2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F51EB-BEDB-4A8A-ADC8-B7913958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36579-3347-4BA9-8B01-1021AA22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66D3-6EC0-4010-A63D-294C925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C0E7E-41A8-4612-93F8-70DF036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95933-C246-4015-947B-A862AAC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4254D-E934-4736-81B2-5630330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27DC2-16FE-4536-9A61-3344C06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716FA-FB07-4731-8758-0BD5FC0A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47B-63EA-4F96-8686-6FB96C03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D5B92-7F76-4445-BABB-B4AFFE69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948D2-331D-48DF-B5D0-3DFDFE3C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724C-96CB-4B06-8345-86D6D832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5FB13-DE73-41E2-ADE9-9C355BE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17497-026E-47D3-B821-9E3C3F3B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F0C3D-CCB1-4976-82FB-52ECB8F4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514EC-7A8E-461B-90F2-B550F288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33C2B-CEAC-493D-A77A-095075F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7D51C-5782-494B-91FE-9CCC1AD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11C1B-EA98-4749-8568-59CC951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1EFF-A0C1-4B44-9BA1-C6ECD32B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8B01-BFDE-46F9-936B-8E3CEEE6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EEAD-8738-4467-9168-F98AEDD4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F01E-0CC3-430E-A64E-752C345A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42A11-55B6-4357-9635-D1133A4D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8315F-144C-4F8D-ACB3-7559E10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FDD64-2C5D-475E-9889-1415847E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386BA-F31F-4705-BA0F-D916631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C7A09-B561-49B4-ADC6-6F36A47D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91CB8-ECFA-4F65-A4A2-5455AF05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53549-7675-40F8-BA52-527909F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ECA6-86B2-4171-91C0-7B38209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6A38F-204B-4BBE-BA3F-69F5E51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DCFFA-41FD-48AA-BB9E-2B9BA78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01749-F801-4ED6-81CC-D989D59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F1498-1E95-483B-BE24-9DB9474E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7F47D-38D8-493B-A5EB-89FE6028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3B510-E64B-400D-9373-B5D8D7CD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20252-D774-4758-8DB4-4CAB1EBF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0F50E-B06B-473C-9835-B496BBB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E7FA8-2414-428C-91F3-4BFABF7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C129B-159D-445B-AC42-14FB7699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9651-8C8F-4661-8A4E-7D02773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3F783-A172-4662-9D31-2692B2CB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FB11E-72A1-4E14-BCD1-B9E2E6B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47076-88F6-407C-975A-7BCD9AA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493F4-5D99-4CF6-9FEA-CDD2711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0CE4A-E430-4B33-B520-1343DF17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CB082-8623-4E9F-904A-D2DCD9F5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FE7D2-01B4-4253-82C7-98E45C4B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38656-8ABF-4922-AE64-34A1C484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475FB-A5C3-43C5-952B-77E37AC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F94F3-BB18-447A-8CB5-593439A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171A-8383-43FF-ADD7-8D8F1A99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21324-5176-42C7-B463-26978CA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ACA24-98E7-42F4-8C4F-05A5DB2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BE52B-82AB-4CF9-A861-FF775D37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7331B-A225-4E55-A270-FCFAC4E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440B7-9BF3-4F38-9426-9B4DC5A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355BE-00A7-4A81-BBF6-E57338E5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061D1-EC0A-4472-AC5A-F5089CC8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46CE0-BB19-4E42-BC6C-859125C0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0179F-1417-4485-B9A3-B66FF245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9B2A6-19ED-4EE1-AF06-BC00A95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6F70-599C-42E5-9907-7497349F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1F2CE-010D-4502-8840-A4E3E75B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20C56-6BC8-4927-814F-1FDF884A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FAFC5-8018-44FC-A1CB-3607A071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3A83F-067B-4169-91C6-B52A55EB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A4BA7-2AC1-4E89-935D-6F33634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C5777-89AE-4525-B233-6D86FA4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DFFE3-431B-4718-B738-B45562B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5FD1B-1AB8-4258-859C-6AB996D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5A4A9-DEB6-49B9-8A28-1F91D471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7AED0-CA1B-414C-B9D1-A5933736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4A86-AE1B-453B-960D-69F2BF5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17EBDB-08CE-4AE9-B0BA-723476E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4E8D2-2ABA-410C-AD9E-1E707D59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16901-D3C8-47C8-A50B-D8F7F4D4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21223-B40E-4A32-B570-DEE1327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89E6A-B98B-49DC-A3A3-4DE402B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5ED08-5829-49FF-9BA9-8258065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64022-1B73-4C2B-9B77-6500273B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6BDCC-7042-40AE-BBB6-8FA6A7B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63A80-3CD4-4F59-BC32-D01EF13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207E1-9B5B-4A11-AA2C-0C9AEFB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DEFD-C054-4C7B-A083-EB0A73E5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2E897-D94F-42F0-8784-DC7F563D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DFBD0-3D70-4096-B028-C88BA835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D880C-E165-4D55-B13D-A76EAF7B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47B57-8C18-44C6-9021-9B2F6CFA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2A37F-83D0-4526-8CD7-CB754A8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843FE-6781-4CA5-88CF-27BBE9A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5CA87-0D7D-4221-BA04-041C62B2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6FC81-702E-46EF-BAD5-5EF1341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D5C76-ED40-4934-860C-E581ADE1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628FE-D5D7-40C6-B687-F65D3AA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040-59DC-4891-9DF2-E926776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143-4327-4797-97BE-308500A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D1DD2-5899-4EF0-981D-58C59949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2A219-F388-4022-9385-2FDC6CF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7BD28-D700-4D73-91DE-F157115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A327B-559A-45A6-AFC2-CC9BC5C5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12BB9-2548-4CEB-BA24-FD1E3190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24CD1-4403-4A94-BC77-555D23FB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E8BF9-CE17-42F2-999E-BF4AA00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CC60B-B4B8-4657-B25A-FF4AC116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20268-9131-40AD-B16F-B055903A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8228A-13CB-4DDC-B37E-B13E415E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1C2-8602-4225-A944-E70AB87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B3B6C-C092-4FF5-8AC5-724AE098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A36BC-96A0-4AE0-993E-E953CBB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1676A-BABC-4F7F-ABC8-962F8D0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0E3C9-4334-4278-957D-4FF21DD3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C065B-4385-480F-90F9-B3C287B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50D0D-924D-44F1-8BE7-A45ED452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9EA8C-0E91-4367-B2AC-B23EB42E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295EB3-CAE7-4142-A249-101C84F2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33221-D608-46FB-9039-382A8BF4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9E313-23FE-4441-A40A-17954F61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0FF-4E6D-4348-8DCF-F4F25F9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93BE0-D9B4-4B81-8FDE-7EE3B324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978DC-4B72-4ECC-B040-17AD3401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88B0F-7EFF-469D-9B1B-29274CC0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11530-9E6D-4222-AE4F-6D5026D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98214-BC2D-4390-8F7B-AE45DDA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E8FF1-B00E-4ED0-8F9D-BB8CEC8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CACAE-9C11-4E47-BD62-D9FA864E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F5375-3CB2-43A1-B733-EA0938C9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237B6-6051-4109-AF46-CBFB335D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DD693-EAE5-4088-A229-223E8A9F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7C22-C5A1-4726-A658-B96BBF1D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088D0-AF84-459C-A322-ABEDBC89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A68D7-6C12-4CDB-A2F9-9C58F17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61C44-DF71-4886-81C7-9AF5B5E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BEFC2-F5BC-4D77-A546-31D66BA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5080C-7534-4532-ABF4-ED826316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481DF-ACCA-4765-8460-6DF1402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86B56-BC42-4A5A-8640-0C54517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047F6-38D9-4D85-8772-5657FF91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EA0AB-AE3F-42FC-873C-081401A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4B83A-6831-43C4-942D-CA1B6672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56C2-6199-4399-9DEB-7821E25F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9BEAF-E8DD-44E8-95EE-B85CC6B3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7A81C-D29D-44D6-B906-6134D780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A534E-340E-4B31-9642-A53C43A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8B973-82AF-419C-BFF2-4D1E1308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7CD45-9792-4BC8-A416-E616DC4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8614A-E988-46AA-9AF1-709E9554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191F1-DC12-440C-AEC5-1D401F5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1F26E-5FE5-464B-9E63-8739D3E3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D2CA5-97B3-428A-BDCD-A6E4AB5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89E4C7-D2EF-4926-A911-BB2BB1A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BE5A-8032-4008-8D06-A9F1CCC3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F38B3-F301-4FD2-B3B0-3218C4A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01270-6833-4CBB-B2ED-98C7034C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F2758-AE5F-4845-878D-6CE06A35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4E0C7-90B2-44D2-8134-422C9D60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A5EA7F-1E04-4D44-B741-7D517880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FDD770-6151-4EF4-A0B3-F9DC264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BAF3DD-B834-48D7-9829-628B1376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256138-90C3-4620-B388-1A9619C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5601C-1C5D-4462-94E7-3D1AFC5C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E58DA-6695-49E2-9403-1EB76C3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7CF8-827E-4E2A-80E5-8D054D1B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27968-A7CC-4705-875A-75F4BF16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468B6-5119-4CB3-8834-36924F8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300B0-3454-4EE6-8982-9D47A259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484379-9A09-4935-8BFB-7644B408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50BC2-B8E9-4E64-824F-D093B45A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0F81-4147-4CFD-8057-0894742B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95F9-86E4-4FF3-BEBD-073EEE5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A4BA-376B-4F4E-A09E-D7C3CD2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E91-B340-475E-9D58-9D2A38AC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27C8-EF63-4F10-98A9-44F0B9A4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2A2C-3BA9-4943-8FF5-3639AA7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55A8-4586-4B70-9D4E-4E4F73D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0568-6250-4FAC-9DCF-037C760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5C75-2395-4755-BFA2-9E0CA03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5471-D68A-455B-8028-4770BA3F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6EE0-E301-472D-AE26-D1460321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7FC3-02F1-44F4-BC0E-8DEF3DB7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27A9-2590-4EC8-923B-7ECDFB1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E0B9-D06F-4486-B526-6987277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042-6524-457E-BB44-054A147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0AA3-510C-4B43-9083-B6508AE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351F-C01E-4BFF-8759-178049DB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E2B7-84E3-44BE-92D3-F755A4B7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BEF9-EFE9-426D-9C55-0C85E54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57AC-2A45-4789-836F-32F316A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6CAF-8B4C-479D-827C-28037A0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9CA7-3BD6-4C35-8EA1-C5162C24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8B7E-F0CA-49B7-88F8-8B8782B9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D9D3-0B27-4CBC-889F-47C00536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AA6D-866D-4D9A-9E46-74DB8F9C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57A-0685-4091-82BA-25615100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D419-D059-42F1-8F82-E227ACC2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0864-5B12-48A8-9B7E-22D3FC2B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E4A8-39E8-4F00-95C9-4AB9341D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22C18-59AC-49FA-8202-B0ECEC8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D6A2-6485-47AB-8C2D-3DF68014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E9C1-25CD-4B81-9949-6F36FD7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F270-AA93-4F4B-98A8-28EC891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4A6E-C885-4DAB-B9D7-E0C1A17C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41F1-423F-4D4F-B8DF-F07488B1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9C38-5F18-4117-9108-3AE561DA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CE0-702C-4EEF-8891-E709CCB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CB8F-48A3-456F-BF90-9654B78E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1AAA-9776-4193-823A-A43B46B4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A796C-6FE4-4B31-8F1A-947E4CC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7EBF9-E909-4908-804B-AC4AC20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88D64-246B-4BA2-BE23-358569A7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9DA4F-D1EA-4117-9009-54EEB9DC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E9B3-1813-4B50-9C07-3BDB35F7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846E-5CD1-474A-8C82-9DBB8272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CF257-8483-4AA7-8596-E0C004A9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B1599-35CE-4FB6-BC8F-A8FF6457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2F6-328B-4DB2-912B-6B10559A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1759F-D78D-4A75-9A57-422C1B41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6768-1208-4464-86DD-A72201F4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D6D0-29AE-43C5-B52A-B183FC32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01CFB-35E0-4FD5-8ECF-8AD40CB6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9F48-F800-4709-B77C-E452939A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F0134-F29B-4906-AF19-52732C53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C6737-BEC3-4217-B265-8D035B0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9598-AC72-40FB-A734-73631ED5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1928-1049-4708-8AB5-D4E40362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2AC5-0EAA-410C-B58B-395B3CC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37B-4C6C-46C9-85C6-4369372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D853-27EA-4429-B3EF-6A685F8E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08880-DA0F-49EE-965A-306CC24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389AF-463D-40A3-9076-1784BB1B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1739-FB83-40A7-9188-E2C3F5F2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B6E7-4056-4657-9091-6AAFE414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B23B-E478-44FE-A381-D1AE3729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A576-3052-4C04-802A-27AA0EA1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C747-A705-48EB-AE2A-D713B65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535B-0AC4-4DA3-89F4-0DDED88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B414C-CCA9-4D5F-9849-97FE4FA5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77E-55B0-4A49-9891-2E39E6C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839C-559E-45BB-B3FF-199237C2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B2A6-A28F-46FB-BEDC-20F754A8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26E79-872E-4109-B5E3-C201996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EB04-7922-44DB-8690-79E42E9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2853A-2901-40CA-B124-51B2AF78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9C4F-2E67-4994-A681-4843E090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DB1C-FEF0-40F7-A768-8D3FAF79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58BE8-73F5-452A-B121-75EFBD9A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48802-BBCB-47CE-B6BC-4FFCE51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3C750-3C05-4A1D-AEC6-419CFB0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81BA-C641-4686-82DC-2EE41DAB8C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3419-ABFE-4ACE-B2A9-2A630677D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2EF-4428-4974-AFF0-36797C9B2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B63-5F9F-4468-A277-7F5EFA299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B65A-DB08-49C9-B78D-D629C8789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2B0-BAED-4B50-90EC-9857FFAA1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C4B-57AF-47B6-A768-82378F0A51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D1F-D359-4A39-AF9C-158615EDC3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697A-CFE1-4696-9CF2-B0C2BC130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FCC9-DF6A-41D9-A29D-47C76AF52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AB18-9759-4D68-91E1-5FB312F35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A67E-F58D-408F-BC40-C1D8625AE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ADE8-6C0E-4460-AB64-37882B877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076B-19CD-4CD7-83A3-0153D58E4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83D-305F-4E7F-A755-5C16AB29E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382-0C49-4BA3-B864-634B5EA4DF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263-E1A1-4DAD-A991-83499FB0C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231E-FB4E-4D33-BDD3-1AF6826FC2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F95-807B-4DBE-933F-1530F1C2C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3189-A599-4847-AEF5-50FCC62961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F443-D55A-4A63-AEAB-C497F645D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0968-04D4-41CC-A8EE-B555919C03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3ED6-FF88-4CF0-95C9-19EC6FCBD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9B13-A6F8-4E73-BF74-4DEFABF45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5090-2D31-40B5-BA7A-1DCFB7CDD6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7B6-DC7B-4D57-B7F8-AEDD51A79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DC77-1E64-4EDC-A868-9A4F8F675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778F-525E-410E-8172-476B58A113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2C05-DC12-49BA-8E0A-C313504EA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BE25-092C-4C20-A648-EC37E0879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9104-7F4F-4824-BE78-4C6B75343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1249-F763-4081-B9C9-C41485E12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88D8-8B0A-4B7C-BD31-70C93F6F5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65B0-3A1A-4D87-84CC-BCECA9E83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B7B-D24E-4967-BF4A-9CCC48309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700-BA9B-429C-9DD3-57FB68B64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BAD-EB5C-494C-8C76-F8BC26047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1C53-53FE-47C8-A2AF-A9091BED8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BAF9-0B70-4C6A-B16D-42723E09E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9EF-F27D-4293-8A28-F54D720C1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13D-8627-4828-A526-466FD8100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852560" y="3171960"/>
            <a:ext cx="5438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14200" y="890640"/>
            <a:ext cx="8715600" cy="5076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547640" y="213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580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58196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154764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5640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5656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758196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90800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392436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5940360" y="2982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795672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205092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405288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594036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795672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6165" descr=""/>
          <p:cNvPicPr/>
          <p:nvPr/>
        </p:nvPicPr>
        <p:blipFill>
          <a:blip r:embed="rId18"/>
          <a:stretch/>
        </p:blipFill>
        <p:spPr>
          <a:xfrm>
            <a:off x="1619280" y="432108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6166" descr=""/>
          <p:cNvPicPr/>
          <p:nvPr/>
        </p:nvPicPr>
        <p:blipFill>
          <a:blip r:embed="rId19"/>
          <a:stretch/>
        </p:blipFill>
        <p:spPr>
          <a:xfrm>
            <a:off x="1619280" y="488304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6167" descr=""/>
          <p:cNvPicPr/>
          <p:nvPr/>
        </p:nvPicPr>
        <p:blipFill>
          <a:blip r:embed="rId20"/>
          <a:stretch/>
        </p:blipFill>
        <p:spPr>
          <a:xfrm>
            <a:off x="1619280" y="545940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6168" descr=""/>
          <p:cNvPicPr/>
          <p:nvPr/>
        </p:nvPicPr>
        <p:blipFill>
          <a:blip r:embed="rId21"/>
          <a:stretch/>
        </p:blipFill>
        <p:spPr>
          <a:xfrm>
            <a:off x="4859280" y="430704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6169" descr=""/>
          <p:cNvPicPr/>
          <p:nvPr/>
        </p:nvPicPr>
        <p:blipFill>
          <a:blip r:embed="rId22"/>
          <a:stretch/>
        </p:blipFill>
        <p:spPr>
          <a:xfrm>
            <a:off x="4873680" y="488304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6170" descr=""/>
          <p:cNvPicPr/>
          <p:nvPr/>
        </p:nvPicPr>
        <p:blipFill>
          <a:blip r:embed="rId23"/>
          <a:stretch/>
        </p:blipFill>
        <p:spPr>
          <a:xfrm>
            <a:off x="4873680" y="544500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4"/>
          <a:stretch/>
        </p:blipFill>
        <p:spPr>
          <a:xfrm>
            <a:off x="7020000" y="4956120"/>
            <a:ext cx="1944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图片 7169" descr=""/>
          <p:cNvPicPr/>
          <p:nvPr/>
        </p:nvPicPr>
        <p:blipFill>
          <a:blip r:embed="rId1"/>
          <a:stretch/>
        </p:blipFill>
        <p:spPr>
          <a:xfrm>
            <a:off x="752400" y="1405080"/>
            <a:ext cx="7639200" cy="40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2"/>
          <a:stretch/>
        </p:blipFill>
        <p:spPr>
          <a:xfrm>
            <a:off x="167796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3"/>
          <a:stretch/>
        </p:blipFill>
        <p:spPr>
          <a:xfrm>
            <a:off x="448632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4"/>
          <a:stretch/>
        </p:blipFill>
        <p:spPr>
          <a:xfrm>
            <a:off x="687708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5"/>
          <a:stretch/>
        </p:blipFill>
        <p:spPr>
          <a:xfrm>
            <a:off x="1677960" y="2637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6"/>
          <a:stretch/>
        </p:blipFill>
        <p:spPr>
          <a:xfrm>
            <a:off x="4486320" y="26226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7"/>
          <a:stretch/>
        </p:blipFill>
        <p:spPr>
          <a:xfrm>
            <a:off x="6905520" y="2637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7177" descr=""/>
          <p:cNvPicPr/>
          <p:nvPr/>
        </p:nvPicPr>
        <p:blipFill>
          <a:blip r:embed="rId8"/>
          <a:stretch/>
        </p:blipFill>
        <p:spPr>
          <a:xfrm>
            <a:off x="1258920" y="4968720"/>
            <a:ext cx="187812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8193" descr=""/>
          <p:cNvPicPr/>
          <p:nvPr/>
        </p:nvPicPr>
        <p:blipFill>
          <a:blip r:embed="rId1"/>
          <a:stretch/>
        </p:blipFill>
        <p:spPr>
          <a:xfrm>
            <a:off x="1147680" y="1862280"/>
            <a:ext cx="6848640" cy="3133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8194" descr=""/>
          <p:cNvPicPr/>
          <p:nvPr/>
        </p:nvPicPr>
        <p:blipFill>
          <a:blip r:embed="rId2"/>
          <a:stretch/>
        </p:blipFill>
        <p:spPr>
          <a:xfrm>
            <a:off x="1720800" y="437832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8195" descr=""/>
          <p:cNvPicPr/>
          <p:nvPr/>
        </p:nvPicPr>
        <p:blipFill>
          <a:blip r:embed="rId3"/>
          <a:stretch/>
        </p:blipFill>
        <p:spPr>
          <a:xfrm>
            <a:off x="4600440" y="4392720"/>
            <a:ext cx="18781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6:4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